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B41-E614-4462-A7B1-3CEEFC9F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8F2-5C63-4837-81E0-63226D4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57F-9597-4F44-9DB5-42D1BEDA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429-1D4B-44E1-BECB-24A0D562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E02-7983-469F-8295-E3182A3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476-ACF9-43A4-B5E6-663847A6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DF9-302C-4F45-B604-4B37A9B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6668-687D-4A85-A9FC-0637F4B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11D-E50A-45B8-BEF4-9E4FAA19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24D-5E7D-48CF-AA96-1984EB1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1508-3BBE-41AE-9DA8-F9F0DB2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5D6-6C42-4DE3-B686-88DB423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CA6-220D-42F9-8921-2559FE3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678-CC78-4243-8932-ADD43D3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52F7-8860-4F23-ABFF-390A264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BCF6-F0A6-43B7-BE19-5EB911DA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AD5C-1344-4EA9-9606-4929B9AE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8BF-1B03-4D7C-B75D-CA30528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252-4BAA-49D4-9F30-82CD510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BBC-1157-43EE-9871-C61EFAC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DD5-BDD6-4BE3-BE0F-1B192501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A25-C8A8-4FEB-8FB8-2029523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4AB-56DF-44EC-8B84-F0D253D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114-7BB4-4439-935A-74CD1AF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302-9691-4873-BA92-6894C28BC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B651-C594-4763-97D3-E9F36A6CE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From Cookbook to Inquiry</a:t>
            </a:r>
            <a:endParaRPr b="1" i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okbook Labs and Modeling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are demonstrating fac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only answ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s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provide the single correct explanation or mode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hanging from cookbook to inquiry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162920" cy="36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students a goal to accompli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decide h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only essential procedur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safety and equip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telling students what to d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one’s the hard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ow do you know it’s inquiry? Students will: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ience scientific proce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observa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higher order think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their own conclus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Activity Sections Due: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2320" y="1904760"/>
            <a:ext cx="63244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iona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erials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35:34Z</dcterms:created>
  <dc:creator>Cynthia J. Moore</dc:creator>
  <dc:description/>
  <dc:language>en-US</dc:language>
  <cp:lastModifiedBy>Cynthia Moore</cp:lastModifiedBy>
  <dcterms:modified xsi:type="dcterms:W3CDTF">2011-02-16T16:06:29Z</dcterms:modified>
  <cp:revision>30</cp:revision>
  <dc:subject/>
  <dc:title>Cookbook to Inquiry</dc:title>
</cp:coreProperties>
</file>